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9FC0-F821-4220-B913-126B5727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33C8-CA6F-40C3-8729-C438CEC7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00FF-DB79-4501-8F2C-FF51B643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71FC-1295-47BF-8014-307E23CB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14990-139F-448A-A338-41F6286B7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BC701-F041-4620-8538-D5D1A1E7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260EA-CC38-495F-AD52-1553A73DC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7F3EC-4FB4-406F-9ACF-B1F1BCEC2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D9AB4-E874-4FBF-93CE-CE750A36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5501F-2386-4551-B815-38B44236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4BA18-611B-4767-B35B-3D82745B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FF06-CD75-46FC-A8AF-4DC5F28B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EA1A5-66C5-4883-B70E-92B9FF31B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1D659-37DC-43CB-BAEF-2CD51FD97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397A4-F876-497A-A8EA-D3A0AAAAF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342C6-CF04-4F92-84BE-D3491CE4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89016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337800" y="342756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4252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89016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337800" y="4343400"/>
            <a:ext cx="233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878C2-54BF-464F-A2A6-A91610632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B1AD-B804-4123-904B-97607C0BC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494-161E-41A4-A791-9508A37F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F66C-7781-4BEF-A3E8-F05E362C4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42520" y="985320"/>
            <a:ext cx="7239240" cy="669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482B-F8A2-418C-BD30-9C0361B70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8543-086A-4FBC-9457-8D009523A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52320" y="434340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CE66-1749-4526-977F-8A415A56F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425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2320" y="3427560"/>
            <a:ext cx="353268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42520" y="4343400"/>
            <a:ext cx="72392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E4FB8-4FCC-409E-BCBA-382902C32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A93C2-4C6B-4D90-9921-96631144EC1A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656000" cy="9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" name=""/>
          <p:cNvGraphicFramePr/>
          <p:nvPr/>
        </p:nvGraphicFramePr>
        <p:xfrm>
          <a:off x="5219640" y="260280"/>
          <a:ext cx="34927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60280"/>
                    <a:ext cx="3492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9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8321-31D4-4A7E-ADE0-FE0F39A96CFE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539640" y="260280"/>
            <a:ext cx="1656000" cy="909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" name=""/>
          <p:cNvGraphicFramePr/>
          <p:nvPr/>
        </p:nvGraphicFramePr>
        <p:xfrm>
          <a:off x="5219640" y="260280"/>
          <a:ext cx="3492720" cy="789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19640" y="260280"/>
                    <a:ext cx="3492720" cy="78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00B91-47A2-4D39-87A6-81880EDD1E7D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763280" y="3716280"/>
            <a:ext cx="636588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RedOTRI de Universidades Españolas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Plan Formativo de RedOTRI</a:t>
            </a:r>
            <a:br>
              <a:rPr sz="2400"/>
            </a:br>
            <a:br>
              <a:rPr sz="2400"/>
            </a:br>
            <a:r>
              <a:rPr b="1" lang="es-ES" sz="2400" spc="-1" strike="noStrike">
                <a:solidFill>
                  <a:srgbClr val="990000"/>
                </a:solidFill>
                <a:latin typeface="Arial"/>
              </a:rPr>
              <a:t>Colaboración RedOTRI-Red VITEC</a:t>
            </a: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6CB27-5724-4C88-9DCC-F3CEB2121EE6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258920" y="4581360"/>
            <a:ext cx="734544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00"/>
                </a:solidFill>
                <a:latin typeface="Arial"/>
              </a:rPr>
              <a:t>OBJETIVOS Y ACTIVIDADES</a:t>
            </a:r>
            <a:br>
              <a:rPr sz="3200"/>
            </a:br>
            <a:br>
              <a:rPr sz="3200"/>
            </a:b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. Planificar y ejecutar el Plan Anual de Formación RedOTRI 2008.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2. Fomentar las habilidades y la metodología  docente de los profesores que forman parte del Registro de Formadores </a:t>
            </a:r>
            <a:br>
              <a:rPr sz="2000"/>
            </a:b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3. Implantación  Formación Online o Teleformación.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arrollo de la profesión.</a:t>
            </a:r>
            <a:br>
              <a:rPr sz="2000"/>
            </a:b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. Compartir un lenguaje común: guías y manuales formativos.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509B-6F01-4D87-AD43-DC1AA4779529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160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2050920" y="2852640"/>
          <a:ext cx="5772240" cy="364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852640"/>
                    <a:ext cx="5772240" cy="36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3" name=""/>
          <p:cNvSpPr/>
          <p:nvPr/>
        </p:nvSpPr>
        <p:spPr>
          <a:xfrm>
            <a:off x="1692360" y="1844640"/>
            <a:ext cx="691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Verdana"/>
              </a:rPr>
              <a:t>PLAN ANUAL DE FORMAC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3EEA5-356F-43A4-A7D6-5E777236FB2A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87280" y="3213000"/>
            <a:ext cx="7778880" cy="197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MODALIDADES PLAN DEFORMACIÓN</a:t>
            </a:r>
            <a:br>
              <a:rPr sz="3200"/>
            </a:br>
            <a:br>
              <a:rPr sz="3200"/>
            </a:b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.</a:t>
            </a: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URSOS O ACCIONES FORMATIVA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2. JORNADAS TÉCNICA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3. CURSOS O JORNADAS RECONOCIDAS.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4. </a:t>
            </a: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PLAN DE MOVILIDAD</a:t>
            </a: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B4B21-5BF1-4DB3-A7F7-0A708931B83B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03280" y="1988640"/>
            <a:ext cx="7446960" cy="26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PROFESIONALIZACIÓN DE LAS UNIDADES DE TRANSFERENCIA DE CONOCIMIENTO Y VINCULACIÓN TECNOLÓGICA UNIVERSITARIAS</a:t>
            </a:r>
            <a:br>
              <a:rPr sz="2400"/>
            </a:br>
            <a:endParaRPr b="0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877080" y="5734080"/>
            <a:ext cx="1352520" cy="619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PROYECTO RedVITEC - RedOTRI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3CCF-0639-4991-B0FC-FC49D3216839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97164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CONTEXT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1979640" y="2836800"/>
            <a:ext cx="669600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* Convenio marco de colaboración CRUE-CIN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* Convenio para cooperación RedOTRI-RedVITE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- Forma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- Medición actividad TC-V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- Marketing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Verdana"/>
              </a:rPr>
              <a:t>* Proyecto financiado por la AECI: “Profesionalizacíón de las oficinas de transferencia de conocimiento y vinculación tecnológica universitarias”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52E1-4F50-4E3A-B1BD-B45528FAE26C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97164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"/>
          <p:cNvSpPr/>
          <p:nvPr/>
        </p:nvSpPr>
        <p:spPr>
          <a:xfrm>
            <a:off x="2484360" y="2836800"/>
            <a:ext cx="6191280" cy="35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* Contribuir a la mejora profesional del personal dedicado a TC y VT a través del intercambio de buenas práctic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* Permitirá compartir y adaptar acciones formativas de interés mutu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3CFB-6600-43BC-8899-29384F0B9A1B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EJECUCIÓ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2484360" y="2836800"/>
            <a:ext cx="6191280" cy="37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- Comité Ejecutivo: 8 miembros, 4 por  cada part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990000"/>
                </a:solidFill>
                <a:latin typeface="Verdana"/>
              </a:rPr>
              <a:t>Por parte español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Verdana"/>
              </a:rPr>
              <a:t>Ángeles Lóp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Verdana"/>
              </a:rPr>
              <a:t>Valentí Guas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Verdana"/>
              </a:rPr>
              <a:t>Vicente Dí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99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990000"/>
                </a:solidFill>
                <a:latin typeface="Verdana"/>
              </a:rPr>
              <a:t>Constantino Martíne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9E407-2DEB-41F2-AF02-FA634B69FA73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755280" y="1483920"/>
            <a:ext cx="777708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s-ES_tradn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446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ACCION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2836800"/>
            <a:ext cx="5543640" cy="24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99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Plan de movilid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Verdana"/>
              </a:rPr>
              <a:t>2) Adaptación acciones formativa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25"/>
              </a:spcBef>
              <a:buClr>
                <a:srgbClr val="990000"/>
              </a:buClr>
              <a:buFont typeface="Verdan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A0F4-C6E0-4364-B9EE-38600017E76B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47280" y="3760560"/>
            <a:ext cx="698508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 Narrow"/>
              </a:rPr>
              <a:t>Estancias de aprendizaje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Objetivo: conocer-transmitir buenas prácticas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Oferta: OTRI y Unidades de VT de acogida</a:t>
            </a:r>
            <a:br>
              <a:rPr sz="2400"/>
            </a:b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Demandan: visitantes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6666"/>
                </a:solidFill>
                <a:latin typeface="Arial Narrow"/>
              </a:rPr>
              <a:t>Visitas de expertos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Objetivo: asesorar ante necesidades de las oficinas 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receptoras </a:t>
            </a:r>
            <a:br>
              <a:rPr sz="2400"/>
            </a:b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Oferta: especialistas formadores</a:t>
            </a:r>
            <a:br>
              <a:rPr sz="2400"/>
            </a:b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Demandan: OTRI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 </a:t>
            </a:r>
            <a:r>
              <a:rPr b="0" lang="es-ES_tradnl" sz="2400" spc="-1" strike="noStrike">
                <a:solidFill>
                  <a:srgbClr val="990000"/>
                </a:solidFill>
                <a:latin typeface="Arial Narrow"/>
              </a:rPr>
              <a:t>y Unidades de VT</a:t>
            </a:r>
            <a:br>
              <a:rPr sz="2400"/>
            </a:br>
            <a:r>
              <a:rPr b="1" lang="es-ES_tradnl" sz="2800" spc="-1" strike="noStrike">
                <a:solidFill>
                  <a:srgbClr val="003399"/>
                </a:solidFill>
                <a:latin typeface="Arial Narrow"/>
              </a:rPr>
              <a:t>	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1640" y="170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PLAN DE MOVILIDAD: MODALIDADE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530DF-5F80-40CF-81F9-3A6EFB99A54C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"/>
          <p:cNvSpPr/>
          <p:nvPr/>
        </p:nvSpPr>
        <p:spPr>
          <a:xfrm>
            <a:off x="2195640" y="3645000"/>
            <a:ext cx="47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Verdana"/>
              </a:rPr>
              <a:t>¡Gracias por su atención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8D9E-6C9D-4AA3-B6CD-E43EFBD482F5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66"/>
                </a:solidFill>
                <a:latin typeface="Verdana"/>
              </a:rPr>
              <a:t>RedOTRI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1116000" y="2565000"/>
            <a:ext cx="7345440" cy="391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buClr>
                <a:srgbClr val="cc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Constituida en el seno de la CRUE desde 1997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Adopta el estatuto de Grupo de Trabajo Permanente de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la Comisión Sectorial de I+D (1999).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- Misión: potenciar y difundir el papel de las universidades como elementos esenciales dentro del Sistema Nacional de Innovación.</a:t>
            </a: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- 61 OTRI miembros + asociados (11)</a:t>
            </a:r>
            <a:br>
              <a:rPr sz="1600"/>
            </a:b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- Estructura “Análoga” a la de una asociación: </a:t>
            </a:r>
            <a:br>
              <a:rPr sz="1600"/>
            </a:b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* Plenario de directores/representantes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* Comisión Permanente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* Secretaría Técnica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3ADF-B113-4FA8-A670-A79AB789BDBB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0BBAD-9594-4322-AE69-945134DC897A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83E97-FC5F-4B9E-BDFF-E0D6A101652E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7039B-03ED-48D1-9149-6A51FF2A9554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0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02920" y="2852640"/>
            <a:ext cx="6985080" cy="38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66"/>
                </a:solidFill>
                <a:latin typeface="Arial Narrow"/>
              </a:rPr>
              <a:t>Hito 1: Configuración de la oferta formativa </a:t>
            </a:r>
            <a:br>
              <a:rPr sz="24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- Inscripción voluntaria de especialistas y oficinas/unidades </a:t>
            </a:r>
            <a:br>
              <a:rPr sz="20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- Formulario remitido a la Secretaría Técnica</a:t>
            </a:r>
            <a:br>
              <a:rPr sz="20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- Permanentemente abierta disponible on-line para consulta</a:t>
            </a:r>
            <a:br>
              <a:rPr sz="20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	</a:t>
            </a:r>
            <a:r>
              <a:rPr b="0" lang="es-ES_tradnl" sz="2400" spc="-1" strike="noStrike">
                <a:solidFill>
                  <a:srgbClr val="000099"/>
                </a:solidFill>
                <a:latin typeface="Arial Narrow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6666"/>
                </a:solidFill>
                <a:latin typeface="Arial Narrow"/>
              </a:rPr>
              <a:t>Hito 2: Convocatoria de demandas</a:t>
            </a:r>
            <a:r>
              <a:rPr b="0" lang="es-ES_tradnl" sz="2400" spc="-1" strike="noStrike">
                <a:solidFill>
                  <a:srgbClr val="5f5f5f"/>
                </a:solidFill>
                <a:latin typeface="Arial Narrow"/>
              </a:rPr>
              <a:t>	</a:t>
            </a:r>
            <a:br>
              <a:rPr sz="24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- Demandantes: oficinas/unidades e individuos</a:t>
            </a:r>
            <a:br>
              <a:rPr sz="2000"/>
            </a:br>
            <a:r>
              <a:rPr b="0" lang="es-ES_tradnl" sz="2000" spc="-1" strike="noStrike">
                <a:solidFill>
                  <a:srgbClr val="990000"/>
                </a:solidFill>
                <a:latin typeface="Arial Narrow"/>
              </a:rPr>
              <a:t>- Requerimiento: Programa de Actividades detallado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s-ES_tradnl" sz="2000" spc="-1" strike="noStrike">
                <a:solidFill>
                  <a:srgbClr val="990000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71640" y="170028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Verdana"/>
              </a:rPr>
              <a:t>PLAN DE MOVILIDAD: ETAPAS/PROCES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81DC-21DD-450B-8CA9-9B7F7A037406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66"/>
                </a:solidFill>
                <a:latin typeface="Verdana"/>
              </a:rPr>
              <a:t>RedOTRI: Objetivos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1187280" y="2781360"/>
            <a:ext cx="756000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Potenciar el desarrollo de las OTRI y la profesionalización de su personal.</a:t>
            </a: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cc0000"/>
                </a:solidFill>
                <a:latin typeface="Arial"/>
              </a:rPr>
              <a:t>- 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Fomentar el funcionamiento en red de las OTRI con acciones, instrumentos y servicios de interés común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- Promover la presencia de las universidades en los programas y actividades de la UE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- Asesorar a la Comisión Sectorial de I+D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- Colaborar con la administración y otos agentes sociales en la articulación de las relaciones universidad-empresa.</a:t>
            </a:r>
            <a:br>
              <a:rPr sz="1400"/>
            </a:br>
            <a:br>
              <a:rPr sz="1400"/>
            </a:b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- Contribuir a la implantación de una imagen de las universidades que reconozca su aportación al desarrollo socioeconómico y al proceso de modernización empresarial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73F65-86E3-4937-88B8-D95E47248549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66"/>
                </a:solidFill>
                <a:latin typeface="Verdana"/>
              </a:rPr>
              <a:t>RedOTRI: Organigram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755640" y="2006640"/>
            <a:ext cx="688356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B3419-F3AF-4416-A90F-3B24080D88F8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66"/>
                </a:solidFill>
                <a:latin typeface="Verdana"/>
              </a:rPr>
              <a:t>RedOTRI: activos de r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2603520" y="3068640"/>
            <a:ext cx="31539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Conferencia anual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Informe RedOTRI (anual)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Encuesta RedOTRI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Grupos de trabaj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Proyecto Uniemprend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69C-996C-4D71-AD05-D8497364E084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971640" y="184464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6666"/>
                </a:solidFill>
                <a:latin typeface="Verdana"/>
              </a:rPr>
              <a:t>RedOTRI: algunas cifras (2006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2608920" y="2708280"/>
            <a:ext cx="4304160" cy="39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475 EDP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12.500 contratos de I+D </a:t>
            </a: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428 Meuros de volumen contratado</a:t>
            </a:r>
            <a:br>
              <a:rPr sz="1800"/>
            </a:b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401 solicitudes de patent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171 extensiones internaciona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192 contratos de licencia firmado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cc0000"/>
                </a:solidFill>
                <a:latin typeface="Verdana"/>
              </a:rPr>
              <a:t>- 143 empresas spin-off creada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cc0000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02B8D-BA3C-4EA9-B022-500B7937C9FD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32000" y="2060640"/>
            <a:ext cx="7446960" cy="26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990000"/>
                </a:solidFill>
                <a:latin typeface="Arial"/>
              </a:rPr>
              <a:t>Plan Formativo de RedOTRI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BC58-28CD-4D18-BBA8-65AA04562CF6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476360" y="1915920"/>
            <a:ext cx="7345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SISTEMA DE CUALIFICACIONES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-  CATÁLOGO DE CUALIFICACIONE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 2.-  CATÁLOGO DE FORMACIÓ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E84F0-000F-4360-82ED-89F765A36A44}" type="slidenum">
              <a:rPr b="0" lang="en-US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2819520" y="6229440"/>
            <a:ext cx="3504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f5f5f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58920" y="4149360"/>
            <a:ext cx="734544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762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990000"/>
                </a:solidFill>
                <a:latin typeface="Arial"/>
              </a:rPr>
              <a:t>MISIÓN</a:t>
            </a:r>
            <a:br>
              <a:rPr sz="32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1. La  Adaptación permanente a la evolución del contenido de los puestos de trabajo, mediante la actualización de los conocimientos y habilidades, por tanto, mejorando las competencias y cualificaciones indispensables e lo cual deriva la mejor competitividad de las OTRIs.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. Promoción social para evitar el estancamiento en la cualificación profesional de los trabajadores,  habilitándolos de forma progresiva para realizar tareas de mayor preparación y responsabilidad, siempre que sea posible.    </a:t>
            </a:r>
            <a:br>
              <a:rPr sz="1600"/>
            </a:br>
            <a:br>
              <a:rPr sz="1600"/>
            </a:b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 3. Hacer de la formación una fuente de satisfacción profesional y de mejora personal, a la vez que se cubren las necesidades de las OTRIs</a:t>
            </a:r>
            <a:endParaRPr b="0" lang="en-US" sz="16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7T15:53:19Z</dcterms:created>
  <dc:creator>RZ</dc:creator>
  <dc:description/>
  <dc:language>en-US</dc:language>
  <cp:lastModifiedBy>cmartinez</cp:lastModifiedBy>
  <dcterms:modified xsi:type="dcterms:W3CDTF">2008-05-29T18:19:51Z</dcterms:modified>
  <cp:revision>121</cp:revision>
  <dc:subject/>
  <dc:title>Diapositiva 1</dc:title>
</cp:coreProperties>
</file>